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6CA6-68F1-4DCF-BFC3-F156CF729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Source is an online staff development tool offering training for various computer application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soft Office Suite, Technology Integration into the Curriculum, and Use of the Internet to name a f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employee has access to these training tutorials.  Every school should have a local school administrator to add and delete courses for their facul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logging in you will view your home page.  This is were you access your cour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s can be added school to a school’s entire staff as a group or to an individ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ourse is broken into mini tutoria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utorial can contain as little as 7 slides and up to 40.  Therefore, a session can take as little as 5 mins. to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s have access to this resource wherever there is Internet a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lso online help and a users gu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r faculty has not had training on this wonderful product, then contact your school’s Technology Resource Teacher to plan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37B3-3E2A-447C-97AE-1EC8C656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3848-1AF5-4A59-BC91-9D92FE68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0BE6-5C43-4321-B301-671B2E3B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E9B9-E23C-4CFB-8C74-0A2A9B9D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B4B8-A852-479E-B40E-7B65272A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C069-D130-48A7-BFEB-586A2F41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3966-7F74-47A1-8D6F-BE99C1C1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4052-A936-4876-B97E-A0C555EC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AFC6-3C31-47A1-B09C-BECB9544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1779-33D5-43A8-8526-3A220753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F9A6-D346-41C4-A1F6-C43A1313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0124-85ED-4C22-BB9F-8C60B276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FD9C-80C4-43E8-8259-58FF8F9F4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cpss.howtomaster.com/" TargetMode="External"/><Relationship Id="rId2" Type="http://schemas.openxmlformats.org/officeDocument/2006/relationships/audio" Target="file:///tmp/home/.config/libreoffice/4/user/gallery/~PP3282.WAV" TargetMode="External"/><Relationship Id="rId3" Type="http://schemas.microsoft.com/office/2007/relationships/media" Target="file:///tmp/home/.config/libreoffice/4/user/gallery/~PP3282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file:///tmp/home/.config/libreoffice/4/user/gallery/~PP2840.WAV" TargetMode="External"/><Relationship Id="rId3" Type="http://schemas.microsoft.com/office/2007/relationships/media" Target="file:///tmp/home/.config/libreoffice/4/user/gallery/~PP284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tmp/home/.config/libreoffice/4/user/gallery/~PP2349.WAV" TargetMode="External"/><Relationship Id="rId3" Type="http://schemas.microsoft.com/office/2007/relationships/media" Target="file:///tmp/home/.config/libreoffice/4/user/gallery/~PP234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file:///tmp/home/.config/libreoffice/4/user/gallery/~PP1733.WAV" TargetMode="External"/><Relationship Id="rId3" Type="http://schemas.microsoft.com/office/2007/relationships/media" Target="file:///tmp/home/.config/libreoffice/4/user/gallery/~PP173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file:///tmp/home/.config/libreoffice/4/user/gallery/~PP1389.WAV" TargetMode="External"/><Relationship Id="rId3" Type="http://schemas.microsoft.com/office/2007/relationships/media" Target="file:///tmp/home/.config/libreoffice/4/user/gallery/~PP138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file:///tmp/home/.config/libreoffice/4/user/gallery/~PP1318.WAV" TargetMode="External"/><Relationship Id="rId3" Type="http://schemas.microsoft.com/office/2007/relationships/media" Target="file:///tmp/home/.config/libreoffice/4/user/gallery/~PP131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76520" y="129528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Lucida Sans"/>
              </a:rPr>
              <a:t>InfoSourc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Lucida Sans"/>
              </a:rPr>
              <a:t>How to Mas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495680"/>
            <a:ext cx="8153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cpss.howtomaster.com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077320" y="533520"/>
            <a:ext cx="1066680" cy="838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763120" cy="6572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4:04:14Z</dcterms:created>
  <dc:creator>Aheitman</dc:creator>
  <dc:description/>
  <dc:language>en-US</dc:language>
  <cp:lastModifiedBy>Aheitman</cp:lastModifiedBy>
  <dcterms:modified xsi:type="dcterms:W3CDTF">2007-09-12T14:05:02Z</dcterms:modified>
  <cp:revision>1</cp:revision>
  <dc:subject/>
  <dc:title>Slide 1</dc:title>
</cp:coreProperties>
</file>